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bf69"/>
                </a:solidFill>
                <a:latin typeface="Arial Black"/>
              </a:rPr>
              <a:t>SAP R/3 QM </a:t>
            </a:r>
            <a:br>
              <a:rPr sz="5400"/>
            </a:br>
            <a:r>
              <a:rPr b="1" lang="de-DE" sz="5400" spc="-1" strike="noStrike">
                <a:solidFill>
                  <a:srgbClr val="f6bf69"/>
                </a:solidFill>
                <a:latin typeface="Arial Black"/>
              </a:rPr>
              <a:t>Workshop</a:t>
            </a:r>
            <a:br>
              <a:rPr sz="5400"/>
            </a:br>
            <a:r>
              <a:rPr b="1" lang="de-DE" sz="4000" spc="-1" strike="noStrike">
                <a:solidFill>
                  <a:srgbClr val="f6bf69"/>
                </a:solidFill>
                <a:latin typeface="Arial Black"/>
              </a:rPr>
              <a:t>der</a:t>
            </a:r>
            <a:br>
              <a:rPr sz="5400"/>
            </a:br>
            <a:r>
              <a:rPr b="1" lang="de-DE" sz="54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5400" spc="-1" strike="noStrike">
                <a:solidFill>
                  <a:srgbClr val="f6bf69"/>
                </a:solidFill>
                <a:latin typeface="Arial Black"/>
              </a:rPr>
              <a:t>consulting</a:t>
            </a:r>
            <a:br>
              <a:rPr sz="4000"/>
            </a:br>
            <a:br>
              <a:rPr sz="4000"/>
            </a:br>
            <a:r>
              <a:rPr b="1" lang="de-DE" sz="3200" spc="-1" strike="noStrike">
                <a:solidFill>
                  <a:srgbClr val="f6bf69"/>
                </a:solidFill>
                <a:latin typeface="Arial"/>
              </a:rPr>
              <a:t>Frankfurt</a:t>
            </a:r>
            <a:br>
              <a:rPr sz="3200"/>
            </a:br>
            <a:r>
              <a:rPr b="1" lang="de-DE" sz="3200" spc="-1" strike="noStrike">
                <a:solidFill>
                  <a:srgbClr val="f6bf69"/>
                </a:solidFill>
                <a:latin typeface="Arial"/>
              </a:rPr>
              <a:t>13.04.2000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3800" y="6486480"/>
            <a:ext cx="96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reich Logistik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ertigungsbegleitende 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eigabe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tomatische Zertifikats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nderprüfungen (ungepla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tomatische Überwachung Haltbark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tomatische Lieferantenbeurtei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reich Logistik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stellen und Bearbeiten v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eferantenreklama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undenreklama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ternen Problemmeld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zifikationserstellung und -bearb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zifikations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reich Forschung &amp; Entwickl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benabwick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erknüpfung von beliebigen Dokum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emdmuster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abilitätsprüfungen (in Plan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tegrierte Projektabwicklung über Modul PS     (in Plan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 Bereiche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mweltschu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benabwick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eriodisches, automatisches Anlegen von 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stellen von Berich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tomatische Prüfkostenabrech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 Bereiche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tandhaltung (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üfmittelverwaltung innerhalb Q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librierpla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librieraufträ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librierprüf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pektionsplanung und -abwicklung innerhalb PM mittels Prüfaufträgen in Q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 Bereiche (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D / FI (in Entwickl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oll integrierte automatische Abwicklung für Dienstleistungslab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bindung von Kunden über Intra- und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SO- und GMP-kompati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Anforderungen an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 Bereiche (I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tensicherhe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chivi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ugriffsschutz / Berechtig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dit-Trail-Funk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Erfolgsfaktoren bei der Realisierung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fbau auf einem erprobten Prototy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ranchen Know-H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fahrenes, eingespieltes Berater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aximale Unterstützung durch Kun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Entwicklungsprinzipien (I)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eine Modifikation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lle Releasefähigk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ffektive Modellierung komplexer technologischer Proz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ennung Oberfläche von  Daten und Funk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nutzerdefinierte Menüs und Mas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sführliche Funktions- und Anwendungsdok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Entwicklungsprinzipien (II)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gration der Geschäftsprozesse (z.B. LI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öglichst Vermeidung von bidirektionalen Kopplung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andardisierte Einbindung von Pre- und Postprozesso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etzwerke von Systemen (ALE/IDOC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duzenten (z.B. Chemiewer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nstleister (z.B. Zentraleinkau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unden, Liefera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SAP R/3 QM Workshop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3800" y="6486480"/>
            <a:ext cx="96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folgsfaktoren für S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raussetzungen für ein integriertes SAP-L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forderungen an ein solches L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folgsfaktoren für die Einfüh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twicklungsprinzipien </a:t>
            </a:r>
            <a:r>
              <a:rPr b="0" lang="de-DE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rstellung ausgewählter Projek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skus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Sivento Chemie Rhf. GmbH (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bwicklung aller anfallenden Prüf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eigabe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zessbegleitende 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mwelt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orschungs- und Entwicklungs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nder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undanzfreie Q-Sicht auf Bestä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entrale Datenh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280" y="228600"/>
          <a:ext cx="127656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1276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Sivento Chemie Rhf. GmbH (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urchgängig probenbezogene Prüf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enregistrie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enverwalt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ben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ssourcen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mfassende Such- und Auswertefunk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228600"/>
          <a:ext cx="127656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1276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Sivento Chemie Rhf. GmbH (I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dit-Trail-Funk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griffsschutz / Datensicherh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enahmeplan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abellarische Werteerfass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pezifikationsverwalt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tomatische Prüfkostenabrechn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Sivento Chemie Rhf. GmbH (IV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tomatischer Zertifikatsdr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bgleich aller Bestände bei Spezifikationsänder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ungeplanten Proben sind alle Prüfparameter bis zur Ergebniseingabe modifizi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üfumfang ungeplanter Proben kann aus allen Prüfplänen und / oder Spezifikationen frei zusammengestellt werde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Sivento Chemie Rhf. GmbH (V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üfung (VE) gegen alle Spezifikationen eines Stoff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rstellung des Verwendungsentscheids für alle Spezifikationen eines Stoff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grierte Änderungsfunktion für Haltbark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üfrhythmen für alle Merkm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otbildung, mit automatischer Mittelwertberechnung der Prüfwerte und automatischen Materialumbuchunge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SAP R/3 QM Workshop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3800" y="6486480"/>
            <a:ext cx="96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523880"/>
            <a:ext cx="807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zifikationen sind als SAP Prüfpläne zum Stoff abgebild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le relevanten Daten zur Spezifikation ,d.h. auch die Zertifikatsrelevanz, werden zentral im Prüfplan gepfle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zifikationen können an beliebige Objekte geknüpft we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undengrup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än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SAP R/3 QM Workshop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3800" y="6486480"/>
            <a:ext cx="96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5238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319680" indent="-3196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rchgängige Spezifikationsverarb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3976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Zuordnung Stoff / Spezifikation zum Kund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3976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utomatische Spezifikationsermittlung im Auftrag (Auswahl bei fehlender Eindeutigkei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3976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omplette VE-Info über alle verfügbaren Spezifikationen in allen Bestandssich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3976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ezifikation und / oder Kunde als zusätzliches Selektionskriterium in den Bestandssich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3976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3976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utomatische Verwendbarkeitsprüfung von Chargen in der Lief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3976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SAP R/3 QM Workshop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3800" y="6486480"/>
            <a:ext cx="96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5238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ertifikats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Freigabeprobe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rcRect l="0" t="0" r="0" b="26800"/>
          <a:stretch/>
        </p:blipFill>
        <p:spPr>
          <a:xfrm>
            <a:off x="304920" y="838080"/>
            <a:ext cx="8534160" cy="5639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Sonderprobe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rcRect l="0" t="0" r="0" b="22114"/>
          <a:stretch/>
        </p:blipFill>
        <p:spPr>
          <a:xfrm>
            <a:off x="228600" y="838080"/>
            <a:ext cx="868680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Projekte (I)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3800" y="6486480"/>
            <a:ext cx="96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5238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pezialisierung auf Prozeßindustrie seit 199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stolen GmbH, Gelsenkirc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Hüls AG, Marl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Hüls Silicone GmbH, Nünchri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MA GmbH, Nünchri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vento Chemie Rheinfelden Gmb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vento Chemie GmbH, Düsseldo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Sonderprobe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Parameterauswahl (I)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3"/>
          <a:srcRect l="0" t="0" r="0" b="20003"/>
          <a:stretch/>
        </p:blipFill>
        <p:spPr>
          <a:xfrm>
            <a:off x="304920" y="1295280"/>
            <a:ext cx="8610480" cy="516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Sonderprobe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Parameterauswahl (II)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3"/>
          <a:srcRect l="0" t="0" r="0" b="21573"/>
          <a:stretch/>
        </p:blipFill>
        <p:spPr>
          <a:xfrm>
            <a:off x="304920" y="1371600"/>
            <a:ext cx="8686800" cy="5110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Werteeingabe Sonderprobe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rcRect l="0" t="0" r="0" b="24448"/>
          <a:stretch/>
        </p:blipFill>
        <p:spPr>
          <a:xfrm>
            <a:off x="457200" y="11430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Sivento Chemie Rhf. GmbH (V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weiterungen im Projekt CHAR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tomatischer, periodischer Prüfanstoß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ariable Validierung von Ergebnissen und Pro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nzeptionelle Erweiterungen der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rganisationsstrukturen fü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üfungen über mehrere Lab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bwicklung fremdvergebener Prüf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üfmittel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r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libri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Freigabeprobe 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neu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" descr=""/>
          <p:cNvPicPr/>
          <p:nvPr/>
        </p:nvPicPr>
        <p:blipFill>
          <a:blip r:embed="rId3"/>
          <a:srcRect l="0" t="0" r="0" b="39543"/>
          <a:stretch/>
        </p:blipFill>
        <p:spPr>
          <a:xfrm>
            <a:off x="228600" y="1295280"/>
            <a:ext cx="8686800" cy="5145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Sivento Chemie Rhf. GmbH (V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spiele für mögliche funktionelle Erweiter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obengefäß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Rückstellmuster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waltung von Hilfsstoffen und Reagenzi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schluß von Meßgeräten / Barcodeles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DH GB Creanova Lackrohstoff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rojektumf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Harmonisierung der 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bwicklung Produktendprüf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tomatische Chargenfind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tomatische Zertifikats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dividuelle Add-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erteübergabe an „Verpackte Charge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tomatische Übernahme von Prüfwer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lexible Zusammenfassung von Zertifikatswer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DH GB Creanova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Technische Kunststoff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rojektumf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Harmonisierung der 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bwicklung aller Prüfungen in der logistischen K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tomatische Chargenfind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tomatische Zertifikats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Übernahme recherchierbarer Historiendaten aus diversen Altsyste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dividuelle Add-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tegrierte Funktion zur Prüfkörperherstellung und -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ojekt </a:t>
            </a:r>
            <a:br>
              <a:rPr sz="4400"/>
            </a:b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ASTA Medica AG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ojektumfa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bindung externes LI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bwicklung aller Prüfungen entlang der logistischen K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dividuelle Add-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rweiterte Chargenzustandsverw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rweiterte, manuelle Zertifikats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tomatischer Chargenspl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20000"/>
              </a:lnSpc>
              <a:spcBef>
                <a:spcPts val="601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rweiterte Funktionen zur Nachuntersuch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Manuelle Zertifikat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3"/>
          <a:srcRect l="0" t="0" r="31732" b="0"/>
          <a:stretch/>
        </p:blipFill>
        <p:spPr>
          <a:xfrm>
            <a:off x="914400" y="914400"/>
            <a:ext cx="7391520" cy="5715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Projekte (II)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0948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nnolit Kunststoff Gmb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egussa-Hüls GB Creanova Lackrohstof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egussa-Hüls GB Creanova Technische Kunststof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STA Medica 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Manuelle Zertifikat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22860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62120" y="990720"/>
            <a:ext cx="7734240" cy="56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Vorteile des integrierten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SAP-LIMS (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chere Produktionsstarts durch Aufbau auf Prototy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urze Einführungsz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dividuelle Funktionalitä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meidung von Schnittstel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eine Datenredundan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heitliche Daten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Vorteile des integrierten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SAP-LIMS (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ine zusätzliche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ine zusätzliche Hard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elle Masken, aber Standard SAP Oberflä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elle Bedien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weiterbark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Ergebn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 an die individuellen Prozesse und Bedürfnisse des Kunden angepaßtes Syst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tel- und langfristig erheblichen Kostenvortei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bf69"/>
                </a:solidFill>
                <a:latin typeface="Arial Black"/>
              </a:rPr>
              <a:t>SAP R/3 QM </a:t>
            </a:r>
            <a:br>
              <a:rPr sz="5400"/>
            </a:br>
            <a:r>
              <a:rPr b="1" lang="de-DE" sz="5400" spc="-1" strike="noStrike">
                <a:solidFill>
                  <a:srgbClr val="f6bf69"/>
                </a:solidFill>
                <a:latin typeface="Arial Black"/>
              </a:rPr>
              <a:t>Workshop</a:t>
            </a:r>
            <a:br>
              <a:rPr sz="5400"/>
            </a:br>
            <a:r>
              <a:rPr b="1" lang="de-DE" sz="5400" spc="-1" strike="noStrike">
                <a:solidFill>
                  <a:srgbClr val="f6bf69"/>
                </a:solidFill>
                <a:latin typeface="Arial Black"/>
              </a:rPr>
              <a:t> </a:t>
            </a:r>
            <a:r>
              <a:rPr b="1" lang="de-DE" sz="4000" spc="-1" strike="noStrike">
                <a:solidFill>
                  <a:srgbClr val="f6bf69"/>
                </a:solidFill>
                <a:latin typeface="Arial Black"/>
              </a:rPr>
              <a:t>der</a:t>
            </a:r>
            <a:br>
              <a:rPr sz="5400"/>
            </a:br>
            <a:r>
              <a:rPr b="1" lang="de-DE" sz="54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5400" spc="-1" strike="noStrike">
                <a:solidFill>
                  <a:srgbClr val="f6bf69"/>
                </a:solidFill>
                <a:latin typeface="Arial Black"/>
              </a:rPr>
              <a:t>consulting </a:t>
            </a:r>
            <a:br>
              <a:rPr sz="4000"/>
            </a:br>
            <a:br>
              <a:rPr sz="4000"/>
            </a:br>
            <a:r>
              <a:rPr b="1" lang="de-DE" sz="3200" spc="-1" strike="noStrike">
                <a:solidFill>
                  <a:srgbClr val="f6bf69"/>
                </a:solidFill>
                <a:latin typeface="Arial"/>
              </a:rPr>
              <a:t>Frankfurt</a:t>
            </a:r>
            <a:br>
              <a:rPr sz="3200"/>
            </a:br>
            <a:r>
              <a:rPr b="1" lang="de-DE" sz="3200" spc="-1" strike="noStrike">
                <a:solidFill>
                  <a:srgbClr val="f6bf69"/>
                </a:solidFill>
                <a:latin typeface="Arial"/>
              </a:rPr>
              <a:t>13.04.2000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3800" y="6486480"/>
            <a:ext cx="96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Warum wird  SAP R/3 eingesetzt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143000"/>
          <a:ext cx="8229600" cy="531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Warum wird  SAP R/3 eingesetzt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360" y="16002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andard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bdeckung aller Geschäftsproz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ternehmensweite einheitliche Daten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ternehmensweite 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tenkonsiste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ungewollten Redundan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Warum wird  SAP R/3 eingesetzt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urchgängige Transparenz der Proz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ptimierung von Proze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ung von Synergi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stenreduzie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nittste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nstige lfd.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Warum wird  SAP R/3 eingesetzt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ffizienzsteige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einfachung von technologischen Up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fügbarkeit und Qualität von Information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über den gesamten Produktlebenszyk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ntlang des gesamten primären logistischen Proz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Voraussetzungen für ein integriertes SAP R/3 LIMS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terstützung aller unternehmensweit anfallenden Anforderung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urzfristig verfüg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kunftssicheres Konz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zahlb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dienb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0520" y="65214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urt Fan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</a:t>
            </a:r>
            <a:r>
              <a:rPr b="0" lang="de-DE" sz="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Jochen Winkler</cp:lastModifiedBy>
  <cp:lastPrinted>1998-06-23T09:46:52Z</cp:lastPrinted>
  <dcterms:modified xsi:type="dcterms:W3CDTF">2000-04-20T08:43:56Z</dcterms:modified>
  <cp:revision>108</cp:revision>
  <dc:subject/>
  <dc:title>Intergriertes SAP R/3 LIMS</dc:title>
</cp:coreProperties>
</file>